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8A6-CE63-47E4-B1B0-68173C63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D65-107F-4EB2-984B-E5656E9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C39FC-0B4F-4948-A1FC-A40E50F9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998B-E650-43FC-BBC2-06EEA3C3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D39B0-D4E4-49D1-AF95-C91B8132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01A1D-A6FE-4484-B186-C272DE8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40592-7BCF-4D3D-BD2C-2F3AB94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620B5-5F16-47C9-A14E-4D8A52F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0A936-360F-4EA7-A509-5DF8049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869EC-BC75-44E4-8BC4-469781DC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B626B-4BEA-4163-B5CF-7290C5E2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E5027-C85D-4F7B-AC8E-4E665716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A63-F0E3-42D1-8717-42E7D578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C1D2-3AEC-444D-B808-56E5CD26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8C33D-2439-4968-A23A-2345F485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0F5CE-02A8-4704-8262-D6C7ACD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58F8F-9D2D-4E9E-A664-7675B32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7A809-EB0B-4C6D-B8B6-404EFD8A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8FA74-0E58-4531-A722-7D8AB9E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0C771-FCFE-4F11-A27E-4E7C532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9F55B-4E23-44A8-9777-903CBF3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EE731-4EF6-4C17-A7D0-24CD0CAC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D5C43-04B6-4F49-87AA-2CF91C5A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F7A-0949-4C7C-A024-6CAE48D1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7FA48-F556-40BA-8F9C-2124080F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04788-8D45-4276-ABA7-F9B00301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AE64E-3887-4705-ADD7-40A16EFE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93A60-3F6B-4E77-BCF8-FC0FD9B3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C5E85-4832-47B1-990D-7ECC65C7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8A734-1BFE-48B4-886B-64FC060F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266CF-83D6-45EA-82DD-36E9FA68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39A5D-DB93-4F58-9D04-80545B6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154A5-CA51-46AF-8C58-0C2218A2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8E6A2-1964-4EDD-898B-92C2D5B7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5A18-1F25-4681-B58A-2DA667A3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72BB5-2620-4AE2-8DD2-A69C375F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9DDA-168C-454F-A62B-91FF958C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F560-191A-4F8B-9CC5-0B556806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5850B-BEAD-482F-92F4-1A1A239D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391F8-F76D-4A11-B1CE-41374D80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19F63-5BA8-4553-8FD6-A2A7560C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C008A-D815-493E-A0FF-CA628383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4410C-CBC8-40A8-82A6-3851FAAE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7C529-B249-4292-AE38-C47E600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F8F90-7DBF-4CD3-B806-5E2A8040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0DBA-9866-47D6-8312-6ACDF156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167F3-DD77-4C30-9AC4-D0AE617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65C52-471A-4210-9EEB-1994689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016CE-526E-47D8-81B2-2FBB1D2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7A380-C21F-4226-BBE0-A7908360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DCD2E-7DD6-42F0-A988-AFFB643D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3AC6-FCFC-479B-99CB-CEA3AFB0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7B1-56DE-40E6-8DD3-C18E93C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C7F-F2F9-4C8B-B41E-E8476C8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8538-8536-43AB-A8EE-BF86698E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A554-77FF-4D42-8483-5A94A7B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4EA-6500-46EE-97E6-8D3D316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3B98-2C72-4F4B-BF91-0154A7AD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FED6-8928-468A-8F25-91E79A8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993F-7FDF-4550-A8D9-A9AA7716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F0DB-2238-4F79-B134-B6083589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8644-90D6-46C7-9590-AB558A3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02A8-A56F-43BC-A0D8-DFE91123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FBC5-94DF-4538-AB99-61A81FD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4435-68FD-4D22-B5CE-2DAA0C2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5E4C-CAD1-456E-86B8-7654BADD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9F20-CB58-4C68-89E9-F0BE0B8D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147-C923-4AD5-93E3-B2D76E4B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A2F8-AA99-42EE-940C-AA1152A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50F0-C6E2-4FA7-93C1-2DCA8A2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1DB6-2792-4B58-8986-1A57885F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5606-7FFE-4BFE-9869-88EFAA5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DFAF-1FFC-494E-8FD4-88D1505C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9E8F-687D-441B-9C22-4CF78AB3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E484-70E5-4074-9B63-30B425B6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FE61-E298-4D8F-9473-B02B5462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C067-B5F1-4AC1-A33C-053BF49F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7C403-047C-49F4-AAA6-090DCF47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C97-D993-434A-A6EB-427BA58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F867-12AA-4979-B87B-95596C5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4A2E-EA3A-4EEA-ABBC-58BEDBD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759C-EC8F-4DD0-A59E-390BD0C9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ADEF-7D42-42BA-A7F6-F561C05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FF22-59D2-4ABD-BBCD-042814E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AD1E-4691-47EC-9705-2DD46E32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817E-D39D-4363-8751-E6A12BF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ED97-B63F-4B58-9DC8-00C50E1D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CAD4-834D-4045-B7AD-3111117B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EF4AC-0716-4B0B-9A4E-E29E67B7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53A-4B91-472E-B3A0-AAC9D82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CB13D-5037-420C-B35E-7712243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0C5E-BA12-4903-8C09-C0ECA54A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541F8-D2BA-45CC-AC3E-33D78B0D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E4C7-B6A0-415B-830B-1783BE3B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2AE5-B80B-4278-8A89-79730EAC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C2751-06CF-4F81-9B12-2B416EE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CAAF-024C-488D-AF97-99FE7AD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90F8-2EC6-40B4-B12E-AC73D55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03EF-963F-4CEF-A2A7-5186747E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D3ED-3C18-4BD5-86C9-A781DDD1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E96-7AD1-4EFA-AE96-015D25AD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24586-C438-4B3D-8332-B637B465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24814-F7F2-4EE3-8C52-0E28C497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E2623-6D7D-4DC3-A794-3CE3FC12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CB8FE-84E9-4CD6-97C2-7CD03EE8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1BD9-0DC5-4830-94F4-D4B5340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D53CE-469C-429B-AE77-BADE273D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82102-E033-40E2-90DD-1F5D507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7DC4-5817-4DCA-B37C-F34B9455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5020-1671-4D14-8239-99E2226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891F8-F4BE-4078-A1FB-7AC49F7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D8D-0E7B-4CC2-A65F-77D85844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CDC6F-2220-4DC3-8C05-F21AB706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5EE99-5904-46B2-BE93-C46820DF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64A0-C579-4FFD-B1C0-0DAEFF36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B01E-1D94-4ACE-89D4-8849FA14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3B7F-E617-46D8-AFF2-723F9D05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DA03-555F-435A-A500-6611B51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24436-7330-4150-AB0E-1E7897F5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80216-85D1-48B8-9DD7-3BB61B1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8DF9-435B-4A82-BC21-89911CE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B059-14D6-4287-AA89-30E78B6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586-B9A3-437E-8A80-6B58A2BC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7AE48-B83E-4B4E-A149-D05FED7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9731-0431-406B-BF84-06C8785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CE60F-5D39-4185-96FF-950E2C04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FAD1-5F08-415D-9249-5429AD9F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93F5D-C007-4F38-8B33-2700E931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23FEE-925A-4BDE-92D6-042B3B23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03A2-953F-491A-A323-91AAAE31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1F6D6-8B8E-4D33-89E9-88B3348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70CBE-AFF7-4BD2-88B5-D1E36C84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7B4A1-5F38-4F6B-B153-7A9BF2D9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DB2-CC9E-4EDE-983F-3C7C7CDF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AF071-D3E2-4801-84FC-B3AAFB37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F1FE-14AF-4955-A3DF-004BB7F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B7FC8-CD02-49EB-A63E-E8E13CB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FDA92-66B9-4825-884F-A8C1AB4E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79E0-7EA5-4D74-A592-41071206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5FF77-CFDF-451B-BF43-69B6FAF4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90A48-CC2C-40CE-B2C3-6BDDBDD3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5B99C-F07F-43D9-BED6-1A342BF1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3C93B-7A67-4A1D-936D-3116A514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295F5-0A1F-4012-B9A0-51340126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7466-4FD6-4A00-9EF2-D2AA2CD5C3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E553-DB14-43DC-8CFD-6BE7EF393E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4F7-9ED2-4172-AD27-4A3B4958B6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26C-DD73-4F64-B9C9-72F46CD5E4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CFB-1316-40C2-B599-C01B236834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284D-D2D2-42E6-818E-B5D1C0D410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A73F-0EF4-4ECB-BC3A-6DD23B03B4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1303-1317-4596-87FF-3B88B2F188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AD9-5645-4A83-956E-D58028C1C1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2225-DF25-4D26-9E29-F255847257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D191-D57C-49AB-A037-80DC4F32DF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9B14-CB1F-4144-ADDC-972333403A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0 Duchu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túp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Svätý, zostúp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buduj si v nás svoj chr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heň z neba, kiež tvoj j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ameň viery nieti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Svätý, mocne v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zo spánku, svieť a hre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buď verných tisí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ôsob nové Turí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Svätý, tvoja m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môže v nás hriechu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ládne aj život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naša verná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Svätý, vždy nás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ným svetlom do tmy 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oji vieru posil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ove pravdy utvrdz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Svätý, lásky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síme o nová j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ás z nížin pozemsk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krás večných, nebeskýc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8:08:36Z</dcterms:modified>
  <cp:revision>15</cp:revision>
  <dc:subject/>
  <dc:title>Je veľký náš Pán, on slávy je Kráľ Nech do všetkých strán  spev vrúcnych znie chvál.</dc:title>
</cp:coreProperties>
</file>